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45275" cy="9172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E67C-CAA9-40F2-8F9C-1C6A7227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7480-DE1B-4B05-A253-FC40D668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6A6D-0BD6-4F87-BB57-467A5AEDB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A4F3-8314-4181-86AD-392CE66D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E605-83F0-4915-B2D2-74D962DE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68A5-5A77-46B2-BA6D-036E5C3E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89E2-FC91-4135-93DD-92B31595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01C9-2F53-4FCD-8161-BBD05CF3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7CAF-F206-4BA9-980A-E4547FC6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9858-08F5-4E1B-8C93-0D975632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9839-45CA-4D57-B11C-C0C4A805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38FE-E4DB-4B67-98F9-D1925684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9CE5-EEF4-434C-8AC0-E336EB7E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8D21-7C2F-4312-B2C5-6E69A3B0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B432-07EA-4CB9-BD87-D27F783D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3C92-AC65-4486-9702-BE85CD62A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ED84-515F-4563-822D-ACD5EE2F9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0F9B-9B57-4D7F-B892-453F0616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EE2D-F979-40F4-8165-6C9A133C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2EDC-E1B9-477B-9953-EBAF9F31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D539-7398-462D-9B73-7EA8A027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5B56-C3BE-487F-ACAB-8FFE3FDD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EDD9-A596-4BBF-8553-33D00721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B4A5-4B8C-4AC0-BB0B-021D42A1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057A-DF33-42BF-813D-6EC1C5DD02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7404-11BB-4212-A24C-6AE170EDA0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81080"/>
            <a:ext cx="80773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Tahoma"/>
              </a:rPr>
              <a:t>Cellular Transport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32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movement of molecules across a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selectively permeabl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membra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ndocytosis and Exocyto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These 2 processes involve the cell membrane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Tahoma"/>
              </a:rPr>
              <a:t>changing shape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 to either: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Take i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large amounts of molecules such as in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Endocytos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Releas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large amounts of molecules such as in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Exocytos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ndocyto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5" descr="endocytosis"/>
          <p:cNvPicPr/>
          <p:nvPr/>
        </p:nvPicPr>
        <p:blipFill>
          <a:blip r:embed="rId1"/>
          <a:stretch/>
        </p:blipFill>
        <p:spPr>
          <a:xfrm>
            <a:off x="1905120" y="1676520"/>
            <a:ext cx="533376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xocyto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5" descr="exocytosis5"/>
          <p:cNvPicPr/>
          <p:nvPr/>
        </p:nvPicPr>
        <p:blipFill>
          <a:blip r:embed="rId1"/>
          <a:stretch/>
        </p:blipFill>
        <p:spPr>
          <a:xfrm>
            <a:off x="1447920" y="1523880"/>
            <a:ext cx="6476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assive Transpor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ssive transport uses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diffus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since it allows molecules to naturally move from areas of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highe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concentration to areas of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lowe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concentratio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ince diffusion is used energy is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requir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imple Diffu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en very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small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molecules move directly through the cell membran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amples: 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Water, Oxygen and Carbon Diox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IMPLE DIFFU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510516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acilitated Diffu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Large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use a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otein channel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in order to move into the cell by facilitated diffusio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very cell has many different types of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membrane protein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for each type of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molecul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that has to be transported in this wa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ACILITATED DIFFUS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5" descr="GB1-os19"/>
          <p:cNvPicPr/>
          <p:nvPr/>
        </p:nvPicPr>
        <p:blipFill>
          <a:blip r:embed="rId1"/>
          <a:stretch/>
        </p:blipFill>
        <p:spPr>
          <a:xfrm>
            <a:off x="1676520" y="1752480"/>
            <a:ext cx="563868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ctive Transpor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ctive transport occurs when molecules move from areas of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low concentra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to areas of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high concentrat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, the opposite of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diffusio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ince this type of transport moves molecules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gains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their normal flow it requires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energy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to occu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ctive Molecular Transpor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en cells push molecules across a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membran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through protein channels against the flow of diffusio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Active%20diffusion"/>
          <p:cNvPicPr/>
          <p:nvPr/>
        </p:nvPicPr>
        <p:blipFill>
          <a:blip r:embed="rId1"/>
          <a:stretch/>
        </p:blipFill>
        <p:spPr>
          <a:xfrm>
            <a:off x="304920" y="380880"/>
            <a:ext cx="5005440" cy="62485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562360" y="685440"/>
            <a:ext cx="33526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P: High concentration of Na       Low concentration of 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TTOM: High concentration of K      Low concentration of 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09:21Z</dcterms:created>
  <dc:creator>AISD</dc:creator>
  <dc:description/>
  <dc:language>en-US</dc:language>
  <cp:lastModifiedBy>AISD</cp:lastModifiedBy>
  <dcterms:modified xsi:type="dcterms:W3CDTF">2010-09-22T20:06:38Z</dcterms:modified>
  <cp:revision>8</cp:revision>
  <dc:subject/>
  <dc:title>Cellular Transport</dc:title>
</cp:coreProperties>
</file>